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3EC2-71EC-478D-A789-70DCD576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FC7-AAB5-4111-AA63-3B1D990C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F54-CFD1-435A-B226-27830670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977-6E1D-46C5-B540-3394CD7B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B81-B2E0-4BFB-BE66-0BA9B130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1870-1982-4E70-9187-F77CCA09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393-B817-417B-89B8-D0682B8E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88D-03C7-49B2-82A9-B39188EF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537-1577-4ABE-ADEF-74F099E3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21D8-9B4E-4891-A57D-DC735D14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974-2EDA-4204-A529-E43E20DE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965-9738-41C8-B34C-09287C31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2645-FF02-46BD-9625-07A86E984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uasion Argu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side, and argue it eff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iscussing sustainability we have focused on environmental impact of China.  So, in your opinion, which is best: plastic chopsticks, wood chopsticks or other.  Explain why in a few paragraphs with good structure and consist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23:54:22Z</dcterms:created>
  <dc:creator>nmt</dc:creator>
  <dc:description/>
  <dc:language>en-US</dc:language>
  <cp:lastModifiedBy>nmt</cp:lastModifiedBy>
  <dcterms:modified xsi:type="dcterms:W3CDTF">2012-05-10T23:54:59Z</dcterms:modified>
  <cp:revision>1</cp:revision>
  <dc:subject/>
  <dc:title>Persuasion Argument </dc:title>
</cp:coreProperties>
</file>